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A95-2284-44C9-BB7A-2DDAADE1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8AA-8DF7-46D1-9765-8330B377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37A-FA0E-493B-80E4-C668C931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EFF-A987-48C8-8051-B00B5FE2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A3A-3624-40D1-88F5-92281486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B93-0BC5-4949-B390-2E4FFA69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53F-FFC9-40E4-943F-6513A996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9A1-8653-4794-B263-FAD1CC9A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9FE-2EF2-41B1-97DB-F588A33B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E3F-066D-4C3D-A4B4-22077F79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143-D7CD-411A-AE55-F5B0DFF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12F-C4E3-4E75-B87C-10DD2241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C94C-254B-47CD-83ED-1BA6C913FAE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5 Rozsievajme vš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K práci volá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ov jasný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zrieva už klas. :/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sievajme všad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ácne semä pravd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sť o Božej lásk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írme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om svojím Pán t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atbu našu zvlaž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ácne zrno dozr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de žatv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K práci volá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ov jasný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zrieva už klas. 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ejme, keď sú mrak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eď slnko svi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je voda skaln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či nechuť v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lia nedozern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áce všade mno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ýchlo letí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K práci volá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ov jasný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zrieva už klas. 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zbierajme snop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ne, v svätej báz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nás volá k diel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ej lásk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skoro sa skonč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ležitosť k prác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Pán je už blízk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žatve dozrel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4:03:40Z</dcterms:modified>
  <cp:revision>39</cp:revision>
  <dc:subject/>
  <dc:title>Je veľký náš Pán, on slávy je Kráľ Nech do všetkých strán  spev vrúcnych znie chvál.</dc:title>
</cp:coreProperties>
</file>